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7.wmf" ContentType="image/x-wmf"/>
  <Override PartName="/ppt/media/image21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5.jpeg" ContentType="image/jpeg"/>
  <Override PartName="/ppt/media/image18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6919200" cy="920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dt" idx="16"/>
          </p:nvPr>
        </p:nvSpPr>
        <p:spPr>
          <a:xfrm>
            <a:off x="3919320" y="-36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Img"/>
          </p:nvPr>
        </p:nvSpPr>
        <p:spPr>
          <a:xfrm>
            <a:off x="1158480" y="690120"/>
            <a:ext cx="460044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ftr" idx="17"/>
          </p:nvPr>
        </p:nvSpPr>
        <p:spPr>
          <a:xfrm>
            <a:off x="0" y="874188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 type="sldNum" idx="18"/>
          </p:nvPr>
        </p:nvSpPr>
        <p:spPr>
          <a:xfrm>
            <a:off x="3919320" y="874188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DB10-C905-4685-81EB-764B61627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0440" cy="3451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919680" y="8742240"/>
            <a:ext cx="2997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D4EA-52C5-402B-B2E0-CA6FBF793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5C64-F1D9-41BD-81D7-616D2A7FC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F120-F7E3-4FD7-B629-06B67B07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5B9D-1921-42C2-89CB-FBD8B292F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72CD-DBEB-4E55-8106-9532E27B5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79BB-A228-4C20-A53B-5AD1B6D0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EC0E-2940-4198-AF54-DEFE76C7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BC1B-68DD-4B17-8D54-0C7244F5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35BC-689D-454D-827F-452C6679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222B-68C5-4F97-A1F2-CEFAC469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C321-3EAA-404D-903B-3E76DD63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549F-21AE-4F0B-8D79-54B8E968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C521-9479-49C2-B88B-93526104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30FE-6B87-49DD-8EEC-EF816850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E59F-EBC6-46A2-B8F1-6E43355D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4DF8-3381-4A6C-A4D2-B60D58EE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C09F-22F0-4151-86AC-C9CD19CC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9A97-9C63-4F6B-AC43-FA3845212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959052-905F-4537-8E2B-CDB15D1DF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8F08CB-C043-44AA-9E84-4A2112B3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7B0835-C80E-4CE4-B405-6BA1AC24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FEB243-1DED-4E3A-902F-A70DF7AF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FF5204-C596-4AF8-A65F-E6F5BF7F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BD20-ACED-4064-995C-CA0CCD68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FAA724-B4DB-4F68-BD60-FF28D33C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CF7975-4617-41AB-805D-91AAAA58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1996B0-9EB9-4275-8CE9-5682DC58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E0F070-3523-4F5F-B14C-788FACAE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FB2BA0-D17C-4723-A9C7-F455FAF5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7044E4-8BE1-430C-8B70-78BEC259A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2194EC-76E3-400A-8B77-81163E213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1B0A3-54B3-46CC-A3F5-4D965A62E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3C147-1BA9-4BA4-96E9-711E1BC6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2D106-3EC5-4B09-952D-C42A52DE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62E1-3FAE-489B-8A53-1A474A22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DF017-CB77-45B1-A021-E734217C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DA8CA-1E3E-4132-A0C5-65CF33BF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0F490-D29B-4729-835E-B5D81B1F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CD537-45BA-4B18-A275-D3352A87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C2187-2B92-4A10-AC3B-A2EA690F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8D62B-3384-409D-9A2C-40A2E9A6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B9088-F42B-4274-9B96-F767399C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0391C-6DED-4145-AA10-BB9ECD9F1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42C77-612A-4F6F-A0BA-440DD1032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223F0-BD30-4444-A8A3-13E1B79B0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EDBF-3BD9-4938-BC04-46402BAB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55BB8-425A-4C31-9A9D-B57F2F78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B568B-C57D-4C69-B8B1-D2C8BA81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E975E-B619-4527-9BBC-0490A179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4C774-50AE-4CD3-8DA3-5B37DE49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85B06-CC30-400C-8A10-553B5C42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BB2A4-F00E-4A41-93FD-609C9058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19308-9BFB-4CBE-B616-2A7E433B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CA1A1-6077-4A49-8F3A-11134F67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AC4EB-4FED-43AF-A8D4-3A6F7DCE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1D9F5-A40B-4269-9F6A-377A7C412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0676-42EC-4D70-BE4D-58CC915A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174D2-6682-4F59-B951-0287FD563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32B5-9240-49AE-A440-260B885E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F745-FC87-4AB9-83EF-0BCA7793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D8AD-4AF5-498C-9192-43105337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1251-8402-4F62-8FDD-DE027B26A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32B4-36B3-41A2-AC20-0C0207C90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EFDD-B39D-444D-8CF7-9B23B9C29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4D1A-08F6-4BBC-BFD4-9ED3777282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06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3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0230-100C-4540-8684-0441F4C489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190512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4760" y="2759040"/>
            <a:ext cx="518148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Managing bigeye &amp; yellowfin tuna in the WCPO: </a:t>
            </a:r>
            <a:br>
              <a:rPr sz="6000"/>
            </a:b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the Hawaii perspectiv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FB00A6-E32B-44B9-BDC9-3186E104A1F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45960" y="233280"/>
            <a:ext cx="808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AWAII PELAGIC FISHERIES AS PERCENTAGE OF TOTAL PACIFIC OCEAN BIGEYE TUNA CATCH (2004)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763120" cy="37339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15960" y="2176560"/>
            <a:ext cx="17064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 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7.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19920" y="3333600"/>
            <a:ext cx="26668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WAII LONGLINE FISH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3%(4% of WCP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5191200" y="3984480"/>
            <a:ext cx="1706400" cy="3621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166840" y="2682720"/>
            <a:ext cx="620640" cy="3621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5562720"/>
            <a:ext cx="86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*WPFRMC. 2006. Amendment 14 to the Fishery Management Plan for the Pelagic Fisheries of the Western Pacific Region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D5038-0576-4DD4-96F4-77D80C9C8B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04920" y="30492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AWAII LONGLINE FISHERY % OF TOTAL NO. OF LONGLINE VESSELS OPERATING IN THE WESTERN AND CENTRAL PACIFIC FISHERIES CONVENTION AREA (2004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52280" y="2286000"/>
            <a:ext cx="8763120" cy="3200400"/>
            <a:chOff x="152280" y="2286000"/>
            <a:chExt cx="8763120" cy="3200400"/>
          </a:xfrm>
        </p:grpSpPr>
        <p:pic>
          <p:nvPicPr>
            <p:cNvPr id="326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0"/>
              <a:ext cx="876312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539640" y="2584440"/>
              <a:ext cx="170676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OTHER N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97.3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65760" y="3576600"/>
              <a:ext cx="170676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HAWAII LONGLINE FISHE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.7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5114520" y="4133520"/>
              <a:ext cx="1706760" cy="30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90880" y="3017880"/>
              <a:ext cx="620640" cy="30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28600" y="5486400"/>
            <a:ext cx="86104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illiams, P. and C. Reid. 2005. Overview of tuna fisheries in the western and central Pacific Ocean, including economic conditions – 2004. Meeting of the Scientific Committee of the Western and Central Pacific Fisheries Commission, WCPFC-SC-1, Noumea, New Caledonia, 8-19 August 2005. GN WP-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PRFMC. 2005. The Pelagic Fisheries of the Western Pacific Region Annual Report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9CBF1-3641-419E-884B-7850B9E413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934040" cy="47592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3870360" y="341280"/>
            <a:ext cx="374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152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tribution of Hawaii Longline Fishery to the Total Observed Effort (32.22 million hooks) in the Western and Central Pacific between 2001 and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25C3A-AD10-467D-B97B-4614184F98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shing effort north and south of Hawa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rcRect l="9775" t="4392" r="13673" b="24241"/>
          <a:stretch/>
        </p:blipFill>
        <p:spPr>
          <a:xfrm>
            <a:off x="1905120" y="1752480"/>
            <a:ext cx="5562360" cy="49532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540160" y="6703920"/>
            <a:ext cx="4689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728800" y="30081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C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716440" y="48006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325E-BF38-4403-B7F8-33D3BD00CB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CPO yellowfin and bigeye size frequency by gear type. Source: SPC-OF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543800" cy="479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FA23-227C-4ECD-81B7-4E6D49E8BC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6320" y="925560"/>
            <a:ext cx="2438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y big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a catch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. Not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is pr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antly juven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ub-adult fish, especially in Region 4. Sour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C-O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2971800" y="762120"/>
          <a:ext cx="5886360" cy="28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762120"/>
                    <a:ext cx="588636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2971800" y="3951360"/>
          <a:ext cx="5943600" cy="2657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3951360"/>
                    <a:ext cx="594360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 flipH="1">
            <a:off x="4209840" y="4537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873680" y="43434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60520" y="43434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597800" y="45543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819320" y="14889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83160" y="129528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36840" y="1295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674120" y="15066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44364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46120" y="16905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4008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28560" y="42814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A9D5-1D6C-4BB0-91BC-147DE7C549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y Yellowf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a catch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. Sourc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C-O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895480" y="3444840"/>
          <a:ext cx="5359680" cy="27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444840"/>
                    <a:ext cx="53596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 flipV="1">
            <a:off x="5867280" y="86364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819520" y="457200"/>
          <a:ext cx="5419440" cy="2712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457200"/>
                    <a:ext cx="541944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 flipV="1">
            <a:off x="5943600" y="939600"/>
            <a:ext cx="0" cy="1726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5952960" y="3867120"/>
            <a:ext cx="0" cy="1727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96216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48320" y="85248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631920" y="8380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69200" y="1039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869800" y="3657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3733560" y="41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88620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708240" y="38862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445520" y="4087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78680" y="1295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28560" y="10666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041E-AFDB-4F2E-84F4-9BDB2965DE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k size/type does not show much variation in size selection. Source: Kim et al (2006) WCPFC-SC2-2006/EB WP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rcRect l="0" t="1407" r="0" b="0"/>
          <a:stretch/>
        </p:blipFill>
        <p:spPr>
          <a:xfrm>
            <a:off x="1905120" y="1295280"/>
            <a:ext cx="5867280" cy="53434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770040" cy="175248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533520" y="2917800"/>
            <a:ext cx="992160" cy="188280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609480" y="4876920"/>
            <a:ext cx="962280" cy="190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7DBE-1123-4B4F-A4A3-A2EC3C2605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Longline Managemen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ize: how small? Hawaii fleet average size = 108-114 cm bigey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high survival of properly handled released big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quota: Hawaii = 5000 mt?, Am Samoa-Guam-CNMI 2000 mt each? Time limits on achieving 2000 mt? (Other major US longline fishery in Am Samoa currently catch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≈ 200 mt bigeye annu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d season: how long, and w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et set limits? Limits on hooks per set? Vessel d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for pre-existing management measures: limited entry, area closures around MHI, NWHI and Am. Samoa, bycatch limits, e.g. turtle ca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041D-DC38-4C08-8FC8-4444919E5C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PO catches of bigeye tuna. Dashed line represent MSY from 2006 stock assessment (Source SPC-O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914400" y="1677960"/>
            <a:ext cx="7467480" cy="4494240"/>
            <a:chOff x="914400" y="1677960"/>
            <a:chExt cx="7467480" cy="4494240"/>
          </a:xfrm>
        </p:grpSpPr>
        <p:graphicFrame>
          <p:nvGraphicFramePr>
            <p:cNvPr id="297" name=""/>
            <p:cNvGraphicFramePr/>
            <p:nvPr/>
          </p:nvGraphicFramePr>
          <p:xfrm>
            <a:off x="914400" y="1677960"/>
            <a:ext cx="7467480" cy="44942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1677960"/>
                      <a:ext cx="7467480" cy="449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9" name=""/>
            <p:cNvSpPr/>
            <p:nvPr/>
          </p:nvSpPr>
          <p:spPr>
            <a:xfrm>
              <a:off x="2820960" y="37339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S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2C7D-17DF-4AE3-9099-D13C403FC5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PO catches of yellowfin tuna. Dashed line represent MSY from 2006 stock assessment (Source SPC-O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066680" y="1828800"/>
          <a:ext cx="7086600" cy="464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08660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0B6C-9DB2-4293-B156-C321F1055F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waii Fresh Fish Longline Fishe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3"/>
          <p:cNvSpPr/>
          <p:nvPr/>
        </p:nvSpPr>
        <p:spPr>
          <a:xfrm>
            <a:off x="0" y="104472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al characteristics that could be considered when developing management options for bigeye targeting longline fisheries in the Hawaii fish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eye is the target species and is the revenue driver for the fishery and generates approximately 60% ex-vessel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.S. longline fisheries most species are retained and sold and contribute to the economic viability of the fishery. Main discards are lancet fish and blue sha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 fish markets require consistent supply requiring compatible management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D75E-7141-41C5-9D06-DEF2AB96A4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waii Fresh Fish Longline Fish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costs are comparatively high as trips are short, with travel and port days reducing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 fishery is characterized by relatively low volumes of high value landings. Honolulu ranks low volume-wise in the US fish port landings, but is 4th in terms of landed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domestic market relies almost entirely on the Hawaii longline fishery bigeye ca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bigeye tuna is extremely important both economically and culturally to the Hawaii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8F2D-52C8-4A6B-B398-6D6B14E628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waii longline fishery: fleet characteristics and management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mited entry program, maximum fleet size of 164 vessels, current fleet size since 1992 fleet has been stable at around 120-125 ve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shery has maximum size limit of 101 ft. Average size 70 ft and size range of 42 -98ft in leng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books and observers are mandatory, with 20% observer coverage in tuna fleet, 100% in swordfish fle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0-75-nm longline area closure around entire Hawaii (25% of EEZs), Archipelago to minimize protected species interactions and interactions and competition with small vessel troll and handline fle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MS mandatory on all Hawaii longline ve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these measures pre-date the FAO Code of Conduct For Responsible Fishe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4223-CBFD-43BD-99E5-5C965FEF7D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waii longline fishery: fleet characteristics and managemen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catch mitigation measures for turtles (circle hooks, mackerel type bait, de-hookers, turtle handling requirements) and seabirds (weighted hooks, line shooters, blue dyed bait, night setting for swordfish boats). Measures apply &gt; 23 deg N lat for tuna vessels and at all latitudes for swordfish vesse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ordfish fishery constrained by effort (50% of 1994-1999 average = 2240 sets) with set certificates, plus hard caps on leatherback (16) and loggerhead (17) turt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ep setting is defined in regulations, with minimum number of hooks between floats and minimum (20 m) float line lengths and minimum depth of sag, plus no light-sticks, plus cap (10) on swordfish re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nual protected species certification required for vessel owners and oper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landings of shark fins without carcasses, or fins must be 5% of landed total shark we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CG boards about 30% of fleet annually for at sea insp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75EF-CF73-4E7C-948F-B8DF362064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waii longline fishery fleet size. Note relative stability since 199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rcRect l="0" t="0" r="0" b="3029"/>
          <a:stretch/>
        </p:blipFill>
        <p:spPr>
          <a:xfrm>
            <a:off x="228600" y="2133720"/>
            <a:ext cx="83059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0B20-DC2A-44C5-B852-85BF22CF2B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fishery has increased hooks set over time, but with major increase following swordfish closure in 2001 and, more recently increasing fuel cost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ource: NMFS-PIFSC &amp; WPac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685800" y="1828800"/>
          <a:ext cx="7924680" cy="469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924680" cy="46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D0DB-D105-4BD5-970E-91D9DC67D0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0:41:39Z</dcterms:created>
  <dc:creator>Paul Dalzell</dc:creator>
  <dc:description/>
  <dc:language>en-US</dc:language>
  <cp:lastModifiedBy>LaptopAccount</cp:lastModifiedBy>
  <dcterms:modified xsi:type="dcterms:W3CDTF">2008-03-28T22:39:00Z</dcterms:modified>
  <cp:revision>22</cp:revision>
  <dc:subject/>
  <dc:title>Bigeye tuna: the Hawaii longline perspective</dc:title>
</cp:coreProperties>
</file>